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B6C-6DC1-46E3-9913-6D546682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74B-D48D-4324-9B03-9D15EDCF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45F-562A-42DF-A1BC-181D3C5D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A13-7EC9-4B8C-A2DC-467A930D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FBB-A733-42AF-926A-838617A6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648-4532-4EA0-B74D-D7EBE396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DB4-41A1-4BB3-AE13-870E6F16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9F3-AD28-4513-AA80-634459B0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FCE-9489-4F22-B68C-0360E712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DA7-DF73-4780-8519-3AB38DC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EF4-5E88-4A05-8AEE-FF825BC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7EE-2C26-4217-AC24-05071C9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AAA7-4632-4F67-9F24-C62902B7DA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197000"/>
            <a:ext cx="845820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nswer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) Choos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one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skill or technique from an activity of your choice.  Describe a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odel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of this skill or technique.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b) Compar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your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of this skill or technique with th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odel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described in Part (a).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lease complete in your jotters for Wednesday 9</a:t>
            </a:r>
            <a:r>
              <a:rPr b="0" i="1" lang="en-US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2-02T09:51:59Z</dcterms:modified>
  <cp:revision>30</cp:revision>
  <dc:subject/>
  <dc:title>Intermediate PE</dc:title>
</cp:coreProperties>
</file>